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2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A9EC-70F5-495D-9A45-50E461F529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308E-05BB-4E9A-8A8A-5C6697D753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42F6-E778-4E3F-A7FE-942D6F011A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F37-CA28-4AB6-91A1-AF53CFF0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4CE-1111-47F7-A70F-0A0BC190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DF3-7DA9-405B-BDAA-D7901820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867-E8B6-4A8F-9784-1B71AF2B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FEC-2DED-44E2-AF07-9A9C2FF8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6E0-C751-4550-A05D-35CD3D27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A79-CAB1-48F0-9936-DCCD5646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701-658F-41D6-9CDC-4DD2E6A8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B3B1-1F8F-403F-ACAE-2F9F5510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205-1659-43A5-984F-57FA47CE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65E-89AD-4E92-A621-84B9E7FC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E46-5AB9-47CF-B1B5-8A78DE1B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0CD3-D646-4D16-9666-AD89E7FFDB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五章 二次根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507480" y="32389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小结与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1">
            <a:hlinkClick r:id="rId2" action="ppaction://hlinksldjump"/>
          </p:cNvPr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点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复习归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后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7" name="MH_Other_7" descr=""/>
            <p:cNvPicPr/>
            <p:nvPr/>
          </p:nvPicPr>
          <p:blipFill>
            <a:blip r:embed="rId3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71" name="MH_Other_9" descr=""/>
            <p:cNvPicPr/>
            <p:nvPr/>
          </p:nvPicPr>
          <p:blipFill>
            <a:blip r:embed="rId4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MH_Other_11" descr=""/>
          <p:cNvPicPr/>
          <p:nvPr/>
        </p:nvPicPr>
        <p:blipFill>
          <a:blip r:embed="rId5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组合 6"/>
          <p:cNvGrpSpPr/>
          <p:nvPr/>
        </p:nvGrpSpPr>
        <p:grpSpPr>
          <a:xfrm>
            <a:off x="611280" y="5587920"/>
            <a:ext cx="7754760" cy="464040"/>
            <a:chOff x="611280" y="5587920"/>
            <a:chExt cx="7754760" cy="464040"/>
          </a:xfrm>
        </p:grpSpPr>
        <p:sp>
          <p:nvSpPr>
            <p:cNvPr id="227" name="文本框 2"/>
            <p:cNvSpPr/>
            <p:nvPr/>
          </p:nvSpPr>
          <p:spPr>
            <a:xfrm>
              <a:off x="611280" y="5592240"/>
              <a:ext cx="77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.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化简：                       </a:t>
              </a: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8" name="对象 3"/>
            <p:cNvGraphicFramePr/>
            <p:nvPr/>
          </p:nvGraphicFramePr>
          <p:xfrm>
            <a:off x="1821960" y="5587920"/>
            <a:ext cx="3746160" cy="463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9" name="对象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1960" y="5587920"/>
                      <a:ext cx="3746160" cy="46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0" name="文本框 4"/>
          <p:cNvSpPr/>
          <p:nvPr/>
        </p:nvSpPr>
        <p:spPr>
          <a:xfrm>
            <a:off x="5797440" y="558792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8"/>
          <p:cNvGrpSpPr/>
          <p:nvPr/>
        </p:nvGrpSpPr>
        <p:grpSpPr>
          <a:xfrm>
            <a:off x="754200" y="1271520"/>
            <a:ext cx="6395760" cy="817560"/>
            <a:chOff x="754200" y="1271520"/>
            <a:chExt cx="6395760" cy="817560"/>
          </a:xfrm>
        </p:grpSpPr>
        <p:sp>
          <p:nvSpPr>
            <p:cNvPr id="232" name="文本框 5"/>
            <p:cNvSpPr/>
            <p:nvPr/>
          </p:nvSpPr>
          <p:spPr>
            <a:xfrm>
              <a:off x="754200" y="1440360"/>
              <a:ext cx="639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c8c93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3c8c93"/>
                  </a:solidFill>
                  <a:latin typeface="Times New Roman"/>
                  <a:ea typeface="黑体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计算：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3" name="对象 7"/>
            <p:cNvGraphicFramePr/>
            <p:nvPr/>
          </p:nvGraphicFramePr>
          <p:xfrm>
            <a:off x="2555640" y="1271520"/>
            <a:ext cx="3407400" cy="817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4" name="对象 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555640" y="1271520"/>
                      <a:ext cx="3407400" cy="81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5" name="组合 11"/>
          <p:cNvGrpSpPr/>
          <p:nvPr/>
        </p:nvGrpSpPr>
        <p:grpSpPr>
          <a:xfrm>
            <a:off x="1068480" y="2784600"/>
            <a:ext cx="3840120" cy="1725480"/>
            <a:chOff x="1068480" y="2784600"/>
            <a:chExt cx="3840120" cy="1725480"/>
          </a:xfrm>
        </p:grpSpPr>
        <p:sp>
          <p:nvSpPr>
            <p:cNvPr id="236" name="文本框 9"/>
            <p:cNvSpPr/>
            <p:nvPr/>
          </p:nvSpPr>
          <p:spPr>
            <a:xfrm>
              <a:off x="1068480" y="2987640"/>
              <a:ext cx="314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原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7" name="对象 10"/>
            <p:cNvGraphicFramePr/>
            <p:nvPr/>
          </p:nvGraphicFramePr>
          <p:xfrm>
            <a:off x="2410920" y="2784600"/>
            <a:ext cx="2497680" cy="1725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38" name="对象 1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410920" y="2784600"/>
                      <a:ext cx="2497680" cy="17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9" name="组合 30734"/>
          <p:cNvGrpSpPr/>
          <p:nvPr/>
        </p:nvGrpSpPr>
        <p:grpSpPr>
          <a:xfrm>
            <a:off x="328680" y="4675320"/>
            <a:ext cx="1877760" cy="576000"/>
            <a:chOff x="328680" y="4675320"/>
            <a:chExt cx="1877760" cy="576000"/>
          </a:xfrm>
        </p:grpSpPr>
        <p:grpSp>
          <p:nvGrpSpPr>
            <p:cNvPr id="240" name="组合 35"/>
            <p:cNvGrpSpPr/>
            <p:nvPr/>
          </p:nvGrpSpPr>
          <p:grpSpPr>
            <a:xfrm>
              <a:off x="328680" y="4675320"/>
              <a:ext cx="1877760" cy="576000"/>
              <a:chOff x="328680" y="4675320"/>
              <a:chExt cx="1877760" cy="576000"/>
            </a:xfrm>
          </p:grpSpPr>
          <p:sp>
            <p:nvSpPr>
              <p:cNvPr id="241" name="椭圆 56"/>
              <p:cNvSpPr/>
              <p:nvPr/>
            </p:nvSpPr>
            <p:spPr>
              <a:xfrm>
                <a:off x="328680" y="4675320"/>
                <a:ext cx="1877760" cy="5760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椭圆 57"/>
              <p:cNvSpPr/>
              <p:nvPr/>
            </p:nvSpPr>
            <p:spPr>
              <a:xfrm>
                <a:off x="537120" y="4675320"/>
                <a:ext cx="1460520" cy="44820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Box 55"/>
            <p:cNvSpPr/>
            <p:nvPr/>
          </p:nvSpPr>
          <p:spPr>
            <a:xfrm>
              <a:off x="610920" y="4711320"/>
              <a:ext cx="142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针对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11"/>
          <p:cNvGrpSpPr/>
          <p:nvPr/>
        </p:nvGrpSpPr>
        <p:grpSpPr>
          <a:xfrm>
            <a:off x="558720" y="649440"/>
            <a:ext cx="6265800" cy="601560"/>
            <a:chOff x="558720" y="649440"/>
            <a:chExt cx="6265800" cy="601560"/>
          </a:xfrm>
        </p:grpSpPr>
        <p:sp>
          <p:nvSpPr>
            <p:cNvPr id="245" name="圆角矩形 31"/>
            <p:cNvSpPr/>
            <p:nvPr/>
          </p:nvSpPr>
          <p:spPr>
            <a:xfrm>
              <a:off x="558720" y="649440"/>
              <a:ext cx="4621680" cy="60156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19"/>
            <p:cNvSpPr/>
            <p:nvPr/>
          </p:nvSpPr>
          <p:spPr>
            <a:xfrm>
              <a:off x="755280" y="692280"/>
              <a:ext cx="606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考点四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二次根式的计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文本框 2"/>
          <p:cNvSpPr/>
          <p:nvPr/>
        </p:nvSpPr>
        <p:spPr>
          <a:xfrm>
            <a:off x="855720" y="213840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析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：先算乘方，再算乘除，最后算加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组合 10"/>
          <p:cNvGrpSpPr/>
          <p:nvPr/>
        </p:nvGrpSpPr>
        <p:grpSpPr>
          <a:xfrm>
            <a:off x="484200" y="1339920"/>
            <a:ext cx="7754760" cy="1380240"/>
            <a:chOff x="484200" y="1339920"/>
            <a:chExt cx="7754760" cy="1380240"/>
          </a:xfrm>
        </p:grpSpPr>
        <p:sp>
          <p:nvSpPr>
            <p:cNvPr id="249" name="文本框 2"/>
            <p:cNvSpPr/>
            <p:nvPr/>
          </p:nvSpPr>
          <p:spPr>
            <a:xfrm>
              <a:off x="484200" y="1528920"/>
              <a:ext cx="775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c8c93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3c8c93"/>
                  </a:solidFill>
                  <a:latin typeface="Times New Roman"/>
                  <a:ea typeface="黑体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先化简，再求值：          ，其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0" name="对象 3"/>
            <p:cNvGraphicFramePr/>
            <p:nvPr/>
          </p:nvGraphicFramePr>
          <p:xfrm>
            <a:off x="3636000" y="1339920"/>
            <a:ext cx="1567080" cy="795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1" name="对象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636000" y="1339920"/>
                      <a:ext cx="1567080" cy="7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2" name="对象 4"/>
            <p:cNvGraphicFramePr/>
            <p:nvPr/>
          </p:nvGraphicFramePr>
          <p:xfrm>
            <a:off x="1331640" y="2203560"/>
            <a:ext cx="2927160" cy="483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3" name="对象 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331640" y="2203560"/>
                      <a:ext cx="2927160" cy="48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4" name="文本框 5"/>
          <p:cNvSpPr/>
          <p:nvPr/>
        </p:nvSpPr>
        <p:spPr>
          <a:xfrm>
            <a:off x="776160" y="3700440"/>
            <a:ext cx="661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当                   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对象 6"/>
          <p:cNvGraphicFramePr/>
          <p:nvPr/>
        </p:nvGraphicFramePr>
        <p:xfrm>
          <a:off x="1333440" y="3855960"/>
          <a:ext cx="5473800" cy="795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6" name="对象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3440" y="3855960"/>
                    <a:ext cx="54738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对象 7"/>
          <p:cNvGraphicFramePr/>
          <p:nvPr/>
        </p:nvGraphicFramePr>
        <p:xfrm>
          <a:off x="1689120" y="4719600"/>
          <a:ext cx="2927160" cy="484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8" name="对象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89120" y="4719600"/>
                    <a:ext cx="29271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对象 8"/>
          <p:cNvGraphicFramePr/>
          <p:nvPr/>
        </p:nvGraphicFramePr>
        <p:xfrm>
          <a:off x="1906560" y="5438880"/>
          <a:ext cx="2903400" cy="45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0" name="对象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06560" y="5438880"/>
                    <a:ext cx="29034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1" name="组合 11"/>
          <p:cNvGrpSpPr/>
          <p:nvPr/>
        </p:nvGrpSpPr>
        <p:grpSpPr>
          <a:xfrm>
            <a:off x="558720" y="649440"/>
            <a:ext cx="6265800" cy="601560"/>
            <a:chOff x="558720" y="649440"/>
            <a:chExt cx="6265800" cy="601560"/>
          </a:xfrm>
        </p:grpSpPr>
        <p:sp>
          <p:nvSpPr>
            <p:cNvPr id="262" name="圆角矩形 31"/>
            <p:cNvSpPr/>
            <p:nvPr/>
          </p:nvSpPr>
          <p:spPr>
            <a:xfrm>
              <a:off x="558720" y="649440"/>
              <a:ext cx="5203080" cy="60156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19"/>
            <p:cNvSpPr/>
            <p:nvPr/>
          </p:nvSpPr>
          <p:spPr>
            <a:xfrm>
              <a:off x="755280" y="692280"/>
              <a:ext cx="606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考点五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二次根式的化简求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2"/>
          <p:cNvSpPr/>
          <p:nvPr/>
        </p:nvSpPr>
        <p:spPr>
          <a:xfrm>
            <a:off x="712800" y="285588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析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：先利用分式的加减运算化简式子，然后代入数值计算即可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10"/>
          <p:cNvGrpSpPr/>
          <p:nvPr/>
        </p:nvGrpSpPr>
        <p:grpSpPr>
          <a:xfrm>
            <a:off x="484200" y="969840"/>
            <a:ext cx="7754760" cy="819360"/>
            <a:chOff x="484200" y="969840"/>
            <a:chExt cx="7754760" cy="819360"/>
          </a:xfrm>
        </p:grpSpPr>
        <p:sp>
          <p:nvSpPr>
            <p:cNvPr id="266" name="文本框 4"/>
            <p:cNvSpPr/>
            <p:nvPr/>
          </p:nvSpPr>
          <p:spPr>
            <a:xfrm>
              <a:off x="484200" y="1170720"/>
              <a:ext cx="77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.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先化简，再求值：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其中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7" name="对象 5"/>
            <p:cNvGraphicFramePr/>
            <p:nvPr/>
          </p:nvGraphicFramePr>
          <p:xfrm>
            <a:off x="3164760" y="969840"/>
            <a:ext cx="2940480" cy="819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8" name="对象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4760" y="969840"/>
                      <a:ext cx="2940480" cy="8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对象 6"/>
            <p:cNvGraphicFramePr/>
            <p:nvPr/>
          </p:nvGraphicFramePr>
          <p:xfrm>
            <a:off x="6878160" y="1124640"/>
            <a:ext cx="993600" cy="432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0" name="对象 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78160" y="1124640"/>
                      <a:ext cx="993600" cy="43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1" name="组合 11"/>
          <p:cNvGrpSpPr/>
          <p:nvPr/>
        </p:nvGrpSpPr>
        <p:grpSpPr>
          <a:xfrm>
            <a:off x="853920" y="1962000"/>
            <a:ext cx="4265640" cy="2447280"/>
            <a:chOff x="853920" y="1962000"/>
            <a:chExt cx="4265640" cy="2447280"/>
          </a:xfrm>
        </p:grpSpPr>
        <p:sp>
          <p:nvSpPr>
            <p:cNvPr id="272" name="文本框 9"/>
            <p:cNvSpPr/>
            <p:nvPr/>
          </p:nvSpPr>
          <p:spPr>
            <a:xfrm>
              <a:off x="853920" y="2120760"/>
              <a:ext cx="3144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原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3" name="对象 7"/>
            <p:cNvGraphicFramePr/>
            <p:nvPr/>
          </p:nvGraphicFramePr>
          <p:xfrm>
            <a:off x="2201760" y="1962000"/>
            <a:ext cx="2917800" cy="2356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74" name="对象 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01760" y="1962000"/>
                      <a:ext cx="2917800" cy="235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5" name="组合 15"/>
          <p:cNvGrpSpPr/>
          <p:nvPr/>
        </p:nvGrpSpPr>
        <p:grpSpPr>
          <a:xfrm>
            <a:off x="1554120" y="4437000"/>
            <a:ext cx="3144960" cy="1452600"/>
            <a:chOff x="1554120" y="4437000"/>
            <a:chExt cx="3144960" cy="1452600"/>
          </a:xfrm>
        </p:grpSpPr>
        <p:sp>
          <p:nvSpPr>
            <p:cNvPr id="276" name="文本框 8"/>
            <p:cNvSpPr/>
            <p:nvPr/>
          </p:nvSpPr>
          <p:spPr>
            <a:xfrm>
              <a:off x="1554120" y="4471560"/>
              <a:ext cx="314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当      时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原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7" name="对象 12"/>
            <p:cNvGraphicFramePr/>
            <p:nvPr/>
          </p:nvGraphicFramePr>
          <p:xfrm>
            <a:off x="1931040" y="4437000"/>
            <a:ext cx="943200" cy="432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78" name="对象 1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931040" y="4437000"/>
                      <a:ext cx="943200" cy="43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对象 14"/>
            <p:cNvGraphicFramePr/>
            <p:nvPr/>
          </p:nvGraphicFramePr>
          <p:xfrm>
            <a:off x="2282400" y="5009400"/>
            <a:ext cx="2201040" cy="880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0" name="对象 1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82400" y="5009400"/>
                      <a:ext cx="2201040" cy="88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1" name="组合 30734"/>
          <p:cNvGrpSpPr/>
          <p:nvPr/>
        </p:nvGrpSpPr>
        <p:grpSpPr>
          <a:xfrm>
            <a:off x="328680" y="584280"/>
            <a:ext cx="1877760" cy="576360"/>
            <a:chOff x="328680" y="584280"/>
            <a:chExt cx="1877760" cy="576360"/>
          </a:xfrm>
        </p:grpSpPr>
        <p:grpSp>
          <p:nvGrpSpPr>
            <p:cNvPr id="282" name="组合 35"/>
            <p:cNvGrpSpPr/>
            <p:nvPr/>
          </p:nvGrpSpPr>
          <p:grpSpPr>
            <a:xfrm>
              <a:off x="328680" y="584280"/>
              <a:ext cx="1877760" cy="576360"/>
              <a:chOff x="328680" y="584280"/>
              <a:chExt cx="1877760" cy="576360"/>
            </a:xfrm>
          </p:grpSpPr>
          <p:sp>
            <p:nvSpPr>
              <p:cNvPr id="283" name="椭圆 56"/>
              <p:cNvSpPr/>
              <p:nvPr/>
            </p:nvSpPr>
            <p:spPr>
              <a:xfrm>
                <a:off x="328680" y="584280"/>
                <a:ext cx="1877760" cy="57636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椭圆 57"/>
              <p:cNvSpPr/>
              <p:nvPr/>
            </p:nvSpPr>
            <p:spPr>
              <a:xfrm>
                <a:off x="537120" y="584280"/>
                <a:ext cx="1460520" cy="44820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TextBox 55"/>
            <p:cNvSpPr/>
            <p:nvPr/>
          </p:nvSpPr>
          <p:spPr>
            <a:xfrm>
              <a:off x="610920" y="620640"/>
              <a:ext cx="142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针对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80"/>
          <p:cNvSpPr/>
          <p:nvPr/>
        </p:nvSpPr>
        <p:spPr>
          <a:xfrm>
            <a:off x="20412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复习归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3"/>
          <p:cNvGrpSpPr/>
          <p:nvPr/>
        </p:nvGrpSpPr>
        <p:grpSpPr>
          <a:xfrm>
            <a:off x="352440" y="2960640"/>
            <a:ext cx="1865160" cy="825480"/>
            <a:chOff x="352440" y="2960640"/>
            <a:chExt cx="1865160" cy="825480"/>
          </a:xfrm>
        </p:grpSpPr>
        <p:sp>
          <p:nvSpPr>
            <p:cNvPr id="288" name="文本框 7"/>
            <p:cNvSpPr/>
            <p:nvPr/>
          </p:nvSpPr>
          <p:spPr>
            <a:xfrm>
              <a:off x="352440" y="2960640"/>
              <a:ext cx="1865160" cy="825480"/>
            </a:xfrm>
            <a:prstGeom prst="rect">
              <a:avLst/>
            </a:prstGeom>
            <a:noFill/>
            <a:ln w="31680">
              <a:solidFill>
                <a:srgbClr val="228b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二次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9" name="对象 2"/>
            <p:cNvGraphicFramePr/>
            <p:nvPr/>
          </p:nvGraphicFramePr>
          <p:xfrm>
            <a:off x="657000" y="3295080"/>
            <a:ext cx="1255680" cy="487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0" name="对象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57000" y="3295080"/>
                      <a:ext cx="1255680" cy="48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1" name="直接连接符 5"/>
          <p:cNvSpPr/>
          <p:nvPr/>
        </p:nvSpPr>
        <p:spPr>
          <a:xfrm>
            <a:off x="4059360" y="3429000"/>
            <a:ext cx="1017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10"/>
          <p:cNvGrpSpPr/>
          <p:nvPr/>
        </p:nvGrpSpPr>
        <p:grpSpPr>
          <a:xfrm>
            <a:off x="2217600" y="1197000"/>
            <a:ext cx="843120" cy="4608360"/>
            <a:chOff x="2217600" y="1197000"/>
            <a:chExt cx="843120" cy="4608360"/>
          </a:xfrm>
        </p:grpSpPr>
        <p:sp>
          <p:nvSpPr>
            <p:cNvPr id="293" name="直接连接符 4"/>
            <p:cNvSpPr/>
            <p:nvPr/>
          </p:nvSpPr>
          <p:spPr>
            <a:xfrm>
              <a:off x="2411280" y="1197000"/>
              <a:ext cx="0" cy="4608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6"/>
            <p:cNvSpPr/>
            <p:nvPr/>
          </p:nvSpPr>
          <p:spPr>
            <a:xfrm>
              <a:off x="2411280" y="1197000"/>
              <a:ext cx="64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8"/>
            <p:cNvSpPr/>
            <p:nvPr/>
          </p:nvSpPr>
          <p:spPr>
            <a:xfrm>
              <a:off x="2217600" y="3429000"/>
              <a:ext cx="8431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9"/>
            <p:cNvSpPr/>
            <p:nvPr/>
          </p:nvSpPr>
          <p:spPr>
            <a:xfrm>
              <a:off x="2411280" y="5746320"/>
              <a:ext cx="64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11"/>
          <p:cNvSpPr/>
          <p:nvPr/>
        </p:nvSpPr>
        <p:spPr>
          <a:xfrm>
            <a:off x="3059280" y="968400"/>
            <a:ext cx="9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3059280" y="3129120"/>
            <a:ext cx="9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3059280" y="5518080"/>
            <a:ext cx="9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17"/>
          <p:cNvGrpSpPr/>
          <p:nvPr/>
        </p:nvGrpSpPr>
        <p:grpSpPr>
          <a:xfrm>
            <a:off x="4059360" y="750960"/>
            <a:ext cx="880920" cy="1008000"/>
            <a:chOff x="4059360" y="750960"/>
            <a:chExt cx="880920" cy="1008000"/>
          </a:xfrm>
        </p:grpSpPr>
        <p:sp>
          <p:nvSpPr>
            <p:cNvPr id="301" name="直接连接符 18"/>
            <p:cNvSpPr/>
            <p:nvPr/>
          </p:nvSpPr>
          <p:spPr>
            <a:xfrm>
              <a:off x="4605480" y="750960"/>
              <a:ext cx="0" cy="1008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19"/>
            <p:cNvSpPr/>
            <p:nvPr/>
          </p:nvSpPr>
          <p:spPr>
            <a:xfrm>
              <a:off x="4624560" y="750960"/>
              <a:ext cx="315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20"/>
            <p:cNvSpPr/>
            <p:nvPr/>
          </p:nvSpPr>
          <p:spPr>
            <a:xfrm flipV="1">
              <a:off x="4059360" y="1157400"/>
              <a:ext cx="590760" cy="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直接连接符 21"/>
            <p:cNvSpPr/>
            <p:nvPr/>
          </p:nvSpPr>
          <p:spPr>
            <a:xfrm flipV="1">
              <a:off x="4605480" y="1751040"/>
              <a:ext cx="315360" cy="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14"/>
          <p:cNvSpPr/>
          <p:nvPr/>
        </p:nvSpPr>
        <p:spPr>
          <a:xfrm>
            <a:off x="4940280" y="522360"/>
            <a:ext cx="21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最简二次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5"/>
          <p:cNvSpPr/>
          <p:nvPr/>
        </p:nvSpPr>
        <p:spPr>
          <a:xfrm>
            <a:off x="4921200" y="1525680"/>
            <a:ext cx="21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母有理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19"/>
          <p:cNvGrpSpPr/>
          <p:nvPr/>
        </p:nvGrpSpPr>
        <p:grpSpPr>
          <a:xfrm>
            <a:off x="5076720" y="2143080"/>
            <a:ext cx="3365640" cy="3020040"/>
            <a:chOff x="5076720" y="2143080"/>
            <a:chExt cx="3365640" cy="3020040"/>
          </a:xfrm>
        </p:grpSpPr>
        <p:sp>
          <p:nvSpPr>
            <p:cNvPr id="308" name="文本框 16"/>
            <p:cNvSpPr/>
            <p:nvPr/>
          </p:nvSpPr>
          <p:spPr>
            <a:xfrm>
              <a:off x="5076720" y="2143080"/>
              <a:ext cx="3365640" cy="3020040"/>
            </a:xfrm>
            <a:prstGeom prst="rect">
              <a:avLst/>
            </a:prstGeom>
            <a:noFill/>
            <a:ln w="31680">
              <a:solidFill>
                <a:srgbClr val="228b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9" name="对象 18"/>
            <p:cNvGraphicFramePr/>
            <p:nvPr/>
          </p:nvGraphicFramePr>
          <p:xfrm>
            <a:off x="5076720" y="2191680"/>
            <a:ext cx="3161160" cy="2919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10" name="对象 1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76720" y="2191680"/>
                      <a:ext cx="3161160" cy="291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1" name="组合 20"/>
          <p:cNvGrpSpPr/>
          <p:nvPr/>
        </p:nvGrpSpPr>
        <p:grpSpPr>
          <a:xfrm>
            <a:off x="4059360" y="5340240"/>
            <a:ext cx="880920" cy="1008000"/>
            <a:chOff x="4059360" y="5340240"/>
            <a:chExt cx="880920" cy="1008000"/>
          </a:xfrm>
        </p:grpSpPr>
        <p:sp>
          <p:nvSpPr>
            <p:cNvPr id="312" name="直接连接符 18"/>
            <p:cNvSpPr/>
            <p:nvPr/>
          </p:nvSpPr>
          <p:spPr>
            <a:xfrm>
              <a:off x="4605480" y="5340240"/>
              <a:ext cx="0" cy="1008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19"/>
            <p:cNvSpPr/>
            <p:nvPr/>
          </p:nvSpPr>
          <p:spPr>
            <a:xfrm>
              <a:off x="4624560" y="5340240"/>
              <a:ext cx="315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20"/>
            <p:cNvSpPr/>
            <p:nvPr/>
          </p:nvSpPr>
          <p:spPr>
            <a:xfrm flipV="1">
              <a:off x="4059360" y="5746680"/>
              <a:ext cx="590760" cy="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21"/>
            <p:cNvSpPr/>
            <p:nvPr/>
          </p:nvSpPr>
          <p:spPr>
            <a:xfrm flipV="1">
              <a:off x="4605480" y="6340320"/>
              <a:ext cx="315360" cy="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26"/>
          <p:cNvSpPr/>
          <p:nvPr/>
        </p:nvSpPr>
        <p:spPr>
          <a:xfrm>
            <a:off x="4940280" y="5289480"/>
            <a:ext cx="26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乘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27"/>
          <p:cNvSpPr/>
          <p:nvPr/>
        </p:nvSpPr>
        <p:spPr>
          <a:xfrm>
            <a:off x="4921200" y="5975280"/>
            <a:ext cx="26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加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章热点专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4103"/>
          <p:cNvSpPr/>
          <p:nvPr/>
        </p:nvSpPr>
        <p:spPr>
          <a:xfrm>
            <a:off x="71280" y="44280"/>
            <a:ext cx="1306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9494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0412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知识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98665"/>
          <p:cNvSpPr/>
          <p:nvPr/>
        </p:nvSpPr>
        <p:spPr>
          <a:xfrm>
            <a:off x="539640" y="1125360"/>
            <a:ext cx="2089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定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98666"/>
          <p:cNvSpPr/>
          <p:nvPr/>
        </p:nvSpPr>
        <p:spPr>
          <a:xfrm>
            <a:off x="1916280" y="1008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　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式子叫做二次根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对象 198667"/>
          <p:cNvGraphicFramePr/>
          <p:nvPr/>
        </p:nvGraphicFramePr>
        <p:xfrm>
          <a:off x="2770200" y="1106640"/>
          <a:ext cx="129708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对象 1986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0200" y="1106640"/>
                    <a:ext cx="12970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文本框 198668"/>
          <p:cNvSpPr/>
          <p:nvPr/>
        </p:nvSpPr>
        <p:spPr>
          <a:xfrm>
            <a:off x="612720" y="2422440"/>
            <a:ext cx="237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98669"/>
          <p:cNvSpPr/>
          <p:nvPr/>
        </p:nvSpPr>
        <p:spPr>
          <a:xfrm>
            <a:off x="757080" y="3138120"/>
            <a:ext cx="367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积的算术平方根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对象 198670"/>
          <p:cNvGraphicFramePr/>
          <p:nvPr/>
        </p:nvGraphicFramePr>
        <p:xfrm>
          <a:off x="2052720" y="3646440"/>
          <a:ext cx="3887640" cy="61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对象 19867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2720" y="3646440"/>
                    <a:ext cx="38876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对象 198671"/>
          <p:cNvGraphicFramePr/>
          <p:nvPr/>
        </p:nvGraphicFramePr>
        <p:xfrm>
          <a:off x="2124000" y="4870440"/>
          <a:ext cx="3241800" cy="105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" name="对象 19867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24000" y="4870440"/>
                    <a:ext cx="32418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矩形 198672"/>
          <p:cNvSpPr/>
          <p:nvPr/>
        </p:nvSpPr>
        <p:spPr>
          <a:xfrm>
            <a:off x="3421080" y="3130200"/>
            <a:ext cx="410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于算术平方根的积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98673"/>
          <p:cNvSpPr/>
          <p:nvPr/>
        </p:nvSpPr>
        <p:spPr>
          <a:xfrm>
            <a:off x="685800" y="43660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商的算术平方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98674"/>
          <p:cNvSpPr/>
          <p:nvPr/>
        </p:nvSpPr>
        <p:spPr>
          <a:xfrm>
            <a:off x="3421080" y="4420800"/>
            <a:ext cx="410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于算术平方根的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98675"/>
          <p:cNvSpPr/>
          <p:nvPr/>
        </p:nvSpPr>
        <p:spPr>
          <a:xfrm>
            <a:off x="1916280" y="1800360"/>
            <a:ext cx="41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叫做被开方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199683"/>
          <p:cNvSpPr/>
          <p:nvPr/>
        </p:nvSpPr>
        <p:spPr>
          <a:xfrm>
            <a:off x="755640" y="835200"/>
            <a:ext cx="396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最简二次根式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99684"/>
          <p:cNvSpPr/>
          <p:nvPr/>
        </p:nvSpPr>
        <p:spPr>
          <a:xfrm>
            <a:off x="828720" y="1484280"/>
            <a:ext cx="669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以下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三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条件的二次根式叫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最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次根式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99685"/>
          <p:cNvSpPr/>
          <p:nvPr/>
        </p:nvSpPr>
        <p:spPr>
          <a:xfrm>
            <a:off x="826920" y="2203560"/>
            <a:ext cx="7129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被开方数不能含有开得尽方的因数或因式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99686"/>
          <p:cNvSpPr/>
          <p:nvPr/>
        </p:nvSpPr>
        <p:spPr>
          <a:xfrm>
            <a:off x="826920" y="2924280"/>
            <a:ext cx="5113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被开方数不能含有分母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对象 199687"/>
          <p:cNvGraphicFramePr/>
          <p:nvPr/>
        </p:nvGraphicFramePr>
        <p:xfrm>
          <a:off x="6804000" y="2205000"/>
          <a:ext cx="1312920" cy="47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对象 19968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04000" y="2205000"/>
                    <a:ext cx="13129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对象 199688"/>
          <p:cNvGraphicFramePr/>
          <p:nvPr/>
        </p:nvGraphicFramePr>
        <p:xfrm>
          <a:off x="5075280" y="2779560"/>
          <a:ext cx="1224000" cy="893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对象 19968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5280" y="2779560"/>
                    <a:ext cx="122400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文本框 199689"/>
          <p:cNvSpPr/>
          <p:nvPr/>
        </p:nvSpPr>
        <p:spPr>
          <a:xfrm>
            <a:off x="828720" y="3643200"/>
            <a:ext cx="431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母不能含有根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对象 199690"/>
          <p:cNvGraphicFramePr/>
          <p:nvPr/>
        </p:nvGraphicFramePr>
        <p:xfrm>
          <a:off x="4211640" y="3559320"/>
          <a:ext cx="1224000" cy="86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对象 19969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11640" y="3559320"/>
                    <a:ext cx="122400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文本框 199691"/>
          <p:cNvSpPr/>
          <p:nvPr/>
        </p:nvSpPr>
        <p:spPr>
          <a:xfrm>
            <a:off x="1403280" y="4686480"/>
            <a:ext cx="151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注意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99692"/>
          <p:cNvSpPr/>
          <p:nvPr/>
        </p:nvSpPr>
        <p:spPr>
          <a:xfrm>
            <a:off x="2268360" y="4581360"/>
            <a:ext cx="53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二次根式的化简与运算，最后结果应化成最简二次根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200707"/>
          <p:cNvSpPr/>
          <p:nvPr/>
        </p:nvSpPr>
        <p:spPr>
          <a:xfrm>
            <a:off x="539640" y="692280"/>
            <a:ext cx="439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运算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00708"/>
          <p:cNvSpPr/>
          <p:nvPr/>
        </p:nvSpPr>
        <p:spPr>
          <a:xfrm>
            <a:off x="576360" y="1339920"/>
            <a:ext cx="399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加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00709"/>
          <p:cNvSpPr/>
          <p:nvPr/>
        </p:nvSpPr>
        <p:spPr>
          <a:xfrm>
            <a:off x="3276720" y="1339920"/>
            <a:ext cx="3671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类似合并同类项 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对象 200710"/>
          <p:cNvGraphicFramePr/>
          <p:nvPr/>
        </p:nvGraphicFramePr>
        <p:xfrm>
          <a:off x="1403280" y="1916280"/>
          <a:ext cx="5040360" cy="61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对象 2007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916280"/>
                    <a:ext cx="504036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文本框 200711"/>
          <p:cNvSpPr/>
          <p:nvPr/>
        </p:nvSpPr>
        <p:spPr>
          <a:xfrm>
            <a:off x="576360" y="2421000"/>
            <a:ext cx="399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乘法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对象 200712"/>
          <p:cNvGraphicFramePr/>
          <p:nvPr/>
        </p:nvGraphicFramePr>
        <p:xfrm>
          <a:off x="2050920" y="2990880"/>
          <a:ext cx="3961080" cy="62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对象 2007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2990880"/>
                    <a:ext cx="39610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文本框 200713"/>
          <p:cNvSpPr/>
          <p:nvPr/>
        </p:nvSpPr>
        <p:spPr>
          <a:xfrm>
            <a:off x="611280" y="3521160"/>
            <a:ext cx="399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除法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对象 200714"/>
          <p:cNvGraphicFramePr/>
          <p:nvPr/>
        </p:nvGraphicFramePr>
        <p:xfrm>
          <a:off x="3708360" y="3710160"/>
          <a:ext cx="2808360" cy="912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5" name="对象 2007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08360" y="3710160"/>
                    <a:ext cx="280836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文本框 200715"/>
          <p:cNvSpPr/>
          <p:nvPr/>
        </p:nvSpPr>
        <p:spPr>
          <a:xfrm>
            <a:off x="539640" y="4646520"/>
            <a:ext cx="399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次根式的乘方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对象 200716"/>
          <p:cNvGraphicFramePr/>
          <p:nvPr/>
        </p:nvGraphicFramePr>
        <p:xfrm>
          <a:off x="3780000" y="4789440"/>
          <a:ext cx="2447640" cy="793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8" name="对象 2007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0000" y="4789440"/>
                    <a:ext cx="24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文本框 200717"/>
          <p:cNvSpPr/>
          <p:nvPr/>
        </p:nvSpPr>
        <p:spPr>
          <a:xfrm>
            <a:off x="1187280" y="5668920"/>
            <a:ext cx="583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注意平方差公式与完全平方公式的运用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80"/>
          <p:cNvSpPr/>
          <p:nvPr/>
        </p:nvSpPr>
        <p:spPr>
          <a:xfrm>
            <a:off x="11160" y="792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考点讲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9"/>
          <p:cNvGrpSpPr/>
          <p:nvPr/>
        </p:nvGrpSpPr>
        <p:grpSpPr>
          <a:xfrm>
            <a:off x="538200" y="1413000"/>
            <a:ext cx="7889760" cy="1557000"/>
            <a:chOff x="538200" y="1413000"/>
            <a:chExt cx="7889760" cy="1557000"/>
          </a:xfrm>
        </p:grpSpPr>
        <p:sp>
          <p:nvSpPr>
            <p:cNvPr id="122" name="文本框 6"/>
            <p:cNvSpPr/>
            <p:nvPr/>
          </p:nvSpPr>
          <p:spPr>
            <a:xfrm>
              <a:off x="538200" y="1413000"/>
              <a:ext cx="7889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c8c93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3c8c93"/>
                  </a:solidFill>
                  <a:latin typeface="Times New Roman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使代数式        有意义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取值范围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对象 8"/>
            <p:cNvGraphicFramePr/>
            <p:nvPr/>
          </p:nvGraphicFramePr>
          <p:xfrm>
            <a:off x="2499120" y="1523520"/>
            <a:ext cx="1147320" cy="774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" name="对象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99120" y="1523520"/>
                      <a:ext cx="1147320" cy="77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5" name="组合 13"/>
          <p:cNvGrpSpPr/>
          <p:nvPr/>
        </p:nvGrpSpPr>
        <p:grpSpPr>
          <a:xfrm>
            <a:off x="682560" y="2073240"/>
            <a:ext cx="1936800" cy="771480"/>
            <a:chOff x="682560" y="2073240"/>
            <a:chExt cx="1936800" cy="771480"/>
          </a:xfrm>
        </p:grpSpPr>
        <p:graphicFrame>
          <p:nvGraphicFramePr>
            <p:cNvPr id="126" name="对象 11"/>
            <p:cNvGraphicFramePr/>
            <p:nvPr/>
          </p:nvGraphicFramePr>
          <p:xfrm>
            <a:off x="1258560" y="2073240"/>
            <a:ext cx="298800" cy="771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7" name="对象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58560" y="2073240"/>
                      <a:ext cx="298800" cy="77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文本框 12"/>
            <p:cNvSpPr/>
            <p:nvPr/>
          </p:nvSpPr>
          <p:spPr>
            <a:xfrm>
              <a:off x="682560" y="2278080"/>
              <a:ext cx="193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≥ 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且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≠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1"/>
          <p:cNvGrpSpPr/>
          <p:nvPr/>
        </p:nvGrpSpPr>
        <p:grpSpPr>
          <a:xfrm>
            <a:off x="250920" y="668160"/>
            <a:ext cx="6265800" cy="601920"/>
            <a:chOff x="250920" y="668160"/>
            <a:chExt cx="6265800" cy="601920"/>
          </a:xfrm>
        </p:grpSpPr>
        <p:sp>
          <p:nvSpPr>
            <p:cNvPr id="130" name="圆角矩形 31"/>
            <p:cNvSpPr/>
            <p:nvPr/>
          </p:nvSpPr>
          <p:spPr>
            <a:xfrm>
              <a:off x="250920" y="668160"/>
              <a:ext cx="6033960" cy="60192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19"/>
            <p:cNvSpPr/>
            <p:nvPr/>
          </p:nvSpPr>
          <p:spPr>
            <a:xfrm>
              <a:off x="447480" y="711000"/>
              <a:ext cx="606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考点一  二次根式有意义的条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17"/>
          <p:cNvGrpSpPr/>
          <p:nvPr/>
        </p:nvGrpSpPr>
        <p:grpSpPr>
          <a:xfrm>
            <a:off x="468360" y="2924280"/>
            <a:ext cx="8423280" cy="1849320"/>
            <a:chOff x="468360" y="2924280"/>
            <a:chExt cx="8423280" cy="1849320"/>
          </a:xfrm>
        </p:grpSpPr>
        <p:sp>
          <p:nvSpPr>
            <p:cNvPr id="133" name="TextBox 43"/>
            <p:cNvSpPr/>
            <p:nvPr/>
          </p:nvSpPr>
          <p:spPr>
            <a:xfrm>
              <a:off x="468360" y="2924280"/>
              <a:ext cx="842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【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析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】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分别求出使分式、二次根式有意义的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的取值范围，再求出它们解集的公共部分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根据题意，有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-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≠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-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，解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组合 6"/>
            <p:cNvGrpSpPr/>
            <p:nvPr/>
          </p:nvGrpSpPr>
          <p:grpSpPr>
            <a:xfrm>
              <a:off x="1132560" y="4002480"/>
              <a:ext cx="1990440" cy="771120"/>
              <a:chOff x="1132560" y="4002480"/>
              <a:chExt cx="1990440" cy="771120"/>
            </a:xfrm>
          </p:grpSpPr>
          <p:graphicFrame>
            <p:nvGraphicFramePr>
              <p:cNvPr id="135" name="对象 11"/>
              <p:cNvGraphicFramePr/>
              <p:nvPr/>
            </p:nvGraphicFramePr>
            <p:xfrm>
              <a:off x="1724400" y="4002480"/>
              <a:ext cx="307080" cy="77112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36" name="对象 11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724400" y="4002480"/>
                        <a:ext cx="307080" cy="771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7" name="文本框 12"/>
              <p:cNvSpPr/>
              <p:nvPr/>
            </p:nvSpPr>
            <p:spPr>
              <a:xfrm>
                <a:off x="1132560" y="4207320"/>
                <a:ext cx="199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x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≥  </a:t>
                </a:r>
                <a:r>
                  <a:rPr b="0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且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x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≠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3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7"/>
          <p:cNvGrpSpPr/>
          <p:nvPr/>
        </p:nvGrpSpPr>
        <p:grpSpPr>
          <a:xfrm>
            <a:off x="395280" y="1903320"/>
            <a:ext cx="7889760" cy="1191240"/>
            <a:chOff x="395280" y="1903320"/>
            <a:chExt cx="7889760" cy="1191240"/>
          </a:xfrm>
        </p:grpSpPr>
        <p:sp>
          <p:nvSpPr>
            <p:cNvPr id="139" name="文本框 2"/>
            <p:cNvSpPr/>
            <p:nvPr/>
          </p:nvSpPr>
          <p:spPr>
            <a:xfrm>
              <a:off x="395280" y="1903320"/>
              <a:ext cx="78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若式子      在实数范围内有意义，则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取值范围是（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              B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≤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              C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&gt;3               D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&lt;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0" name="对象 3"/>
            <p:cNvGraphicFramePr/>
            <p:nvPr/>
          </p:nvGraphicFramePr>
          <p:xfrm>
            <a:off x="1836000" y="2063160"/>
            <a:ext cx="977760" cy="409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1" name="对象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36000" y="2063160"/>
                      <a:ext cx="97776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文本框 5"/>
          <p:cNvSpPr/>
          <p:nvPr/>
        </p:nvSpPr>
        <p:spPr>
          <a:xfrm>
            <a:off x="826920" y="2552760"/>
            <a:ext cx="4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30734"/>
          <p:cNvGrpSpPr/>
          <p:nvPr/>
        </p:nvGrpSpPr>
        <p:grpSpPr>
          <a:xfrm>
            <a:off x="257040" y="1289160"/>
            <a:ext cx="1877760" cy="576000"/>
            <a:chOff x="257040" y="1289160"/>
            <a:chExt cx="1877760" cy="576000"/>
          </a:xfrm>
        </p:grpSpPr>
        <p:grpSp>
          <p:nvGrpSpPr>
            <p:cNvPr id="144" name="组合 35"/>
            <p:cNvGrpSpPr/>
            <p:nvPr/>
          </p:nvGrpSpPr>
          <p:grpSpPr>
            <a:xfrm>
              <a:off x="257040" y="1289160"/>
              <a:ext cx="1877760" cy="576000"/>
              <a:chOff x="257040" y="1289160"/>
              <a:chExt cx="1877760" cy="576000"/>
            </a:xfrm>
          </p:grpSpPr>
          <p:sp>
            <p:nvSpPr>
              <p:cNvPr id="145" name="椭圆 56"/>
              <p:cNvSpPr/>
              <p:nvPr/>
            </p:nvSpPr>
            <p:spPr>
              <a:xfrm>
                <a:off x="257040" y="1289160"/>
                <a:ext cx="1877760" cy="5760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椭圆 57"/>
              <p:cNvSpPr/>
              <p:nvPr/>
            </p:nvSpPr>
            <p:spPr>
              <a:xfrm>
                <a:off x="465480" y="1289160"/>
                <a:ext cx="1460520" cy="44820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Box 55"/>
            <p:cNvSpPr/>
            <p:nvPr/>
          </p:nvSpPr>
          <p:spPr>
            <a:xfrm>
              <a:off x="539280" y="1325160"/>
              <a:ext cx="142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针对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"/>
          <p:cNvGrpSpPr/>
          <p:nvPr/>
        </p:nvGrpSpPr>
        <p:grpSpPr>
          <a:xfrm>
            <a:off x="450720" y="3968640"/>
            <a:ext cx="8035920" cy="1191240"/>
            <a:chOff x="450720" y="3968640"/>
            <a:chExt cx="8035920" cy="1191240"/>
          </a:xfrm>
        </p:grpSpPr>
        <p:sp>
          <p:nvSpPr>
            <p:cNvPr id="149" name="文本框 2"/>
            <p:cNvSpPr/>
            <p:nvPr/>
          </p:nvSpPr>
          <p:spPr>
            <a:xfrm>
              <a:off x="450720" y="3968640"/>
              <a:ext cx="8035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若                      则（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           B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          C.0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≤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≤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          D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一切实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0" name="对象 3"/>
            <p:cNvGraphicFramePr/>
            <p:nvPr/>
          </p:nvGraphicFramePr>
          <p:xfrm>
            <a:off x="1401840" y="4137840"/>
            <a:ext cx="3265560" cy="452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1" name="对象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01840" y="4137840"/>
                      <a:ext cx="3265560" cy="4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2" name="文本框 6"/>
          <p:cNvSpPr/>
          <p:nvPr/>
        </p:nvSpPr>
        <p:spPr>
          <a:xfrm>
            <a:off x="5364000" y="4060800"/>
            <a:ext cx="4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5"/>
          <p:cNvGrpSpPr/>
          <p:nvPr/>
        </p:nvGrpSpPr>
        <p:grpSpPr>
          <a:xfrm>
            <a:off x="466560" y="1722600"/>
            <a:ext cx="7888320" cy="642600"/>
            <a:chOff x="466560" y="1722600"/>
            <a:chExt cx="7888320" cy="642600"/>
          </a:xfrm>
        </p:grpSpPr>
        <p:grpSp>
          <p:nvGrpSpPr>
            <p:cNvPr id="154" name="组合 7"/>
            <p:cNvGrpSpPr/>
            <p:nvPr/>
          </p:nvGrpSpPr>
          <p:grpSpPr>
            <a:xfrm>
              <a:off x="466560" y="1722600"/>
              <a:ext cx="7888320" cy="642600"/>
              <a:chOff x="466560" y="1722600"/>
              <a:chExt cx="7888320" cy="642600"/>
            </a:xfrm>
          </p:grpSpPr>
          <p:sp>
            <p:nvSpPr>
              <p:cNvPr id="155" name="文本框 2"/>
              <p:cNvSpPr/>
              <p:nvPr/>
            </p:nvSpPr>
            <p:spPr>
              <a:xfrm>
                <a:off x="466560" y="1722600"/>
                <a:ext cx="7888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c8c93"/>
                    </a:solidFill>
                    <a:latin typeface="Times New Roman"/>
                    <a:ea typeface="黑体"/>
                  </a:rPr>
                  <a:t>例</a:t>
                </a:r>
                <a:r>
                  <a:rPr b="0" lang="en-US" sz="2400" spc="-1" strike="noStrike">
                    <a:solidFill>
                      <a:srgbClr val="3c8c93"/>
                    </a:solidFill>
                    <a:latin typeface="Times New Roman"/>
                    <a:ea typeface="黑体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若                      求       的值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.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56" name="对象 3"/>
              <p:cNvGraphicFramePr/>
              <p:nvPr/>
            </p:nvGraphicFramePr>
            <p:xfrm>
              <a:off x="1620000" y="1883520"/>
              <a:ext cx="3382920" cy="4330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57" name="对象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0" y="1883520"/>
                        <a:ext cx="3382920" cy="43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58" name="对象 4"/>
            <p:cNvGraphicFramePr/>
            <p:nvPr/>
          </p:nvGraphicFramePr>
          <p:xfrm>
            <a:off x="5293080" y="1883520"/>
            <a:ext cx="1056960" cy="450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9" name="对象 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93080" y="1883520"/>
                      <a:ext cx="1056960" cy="45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组合 11"/>
          <p:cNvGrpSpPr/>
          <p:nvPr/>
        </p:nvGrpSpPr>
        <p:grpSpPr>
          <a:xfrm>
            <a:off x="851040" y="3780000"/>
            <a:ext cx="6511680" cy="1739880"/>
            <a:chOff x="851040" y="3780000"/>
            <a:chExt cx="6511680" cy="1739880"/>
          </a:xfrm>
        </p:grpSpPr>
        <p:sp>
          <p:nvSpPr>
            <p:cNvPr id="161" name="文本框 6"/>
            <p:cNvSpPr/>
            <p:nvPr/>
          </p:nvSpPr>
          <p:spPr>
            <a:xfrm>
              <a:off x="851040" y="3780000"/>
              <a:ext cx="6511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：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∴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-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=0,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+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-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=0,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得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1,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-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2" name="对象 8"/>
            <p:cNvGraphicFramePr/>
            <p:nvPr/>
          </p:nvGraphicFramePr>
          <p:xfrm>
            <a:off x="1834920" y="3967920"/>
            <a:ext cx="3382560" cy="432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3" name="对象 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834920" y="3967920"/>
                      <a:ext cx="338256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对象 10"/>
            <p:cNvGraphicFramePr/>
            <p:nvPr/>
          </p:nvGraphicFramePr>
          <p:xfrm>
            <a:off x="1842480" y="5047560"/>
            <a:ext cx="3194640" cy="449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5" name="对象 1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42480" y="5047560"/>
                      <a:ext cx="3194640" cy="44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6" name="组合 10"/>
          <p:cNvGrpSpPr/>
          <p:nvPr/>
        </p:nvGrpSpPr>
        <p:grpSpPr>
          <a:xfrm>
            <a:off x="712800" y="2481120"/>
            <a:ext cx="6780240" cy="1191240"/>
            <a:chOff x="712800" y="2481120"/>
            <a:chExt cx="6780240" cy="1191240"/>
          </a:xfrm>
        </p:grpSpPr>
        <p:sp>
          <p:nvSpPr>
            <p:cNvPr id="167" name="文本框 4"/>
            <p:cNvSpPr/>
            <p:nvPr/>
          </p:nvSpPr>
          <p:spPr>
            <a:xfrm>
              <a:off x="712800" y="2481120"/>
              <a:ext cx="678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【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析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】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根据题意及二次根式与完全平方式的非负性可知      和           均为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0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8" name="对象 3"/>
            <p:cNvGraphicFramePr/>
            <p:nvPr/>
          </p:nvGraphicFramePr>
          <p:xfrm>
            <a:off x="2049840" y="3178440"/>
            <a:ext cx="922320" cy="410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9" name="对象 3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049840" y="3178440"/>
                      <a:ext cx="922320" cy="41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对象 3"/>
            <p:cNvGraphicFramePr/>
            <p:nvPr/>
          </p:nvGraphicFramePr>
          <p:xfrm>
            <a:off x="3274920" y="3178440"/>
            <a:ext cx="1646280" cy="3880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1" name="对象 3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4920" y="3178440"/>
                      <a:ext cx="1646280" cy="38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2" name="组合 11"/>
          <p:cNvGrpSpPr/>
          <p:nvPr/>
        </p:nvGrpSpPr>
        <p:grpSpPr>
          <a:xfrm>
            <a:off x="558720" y="1047600"/>
            <a:ext cx="6265800" cy="601920"/>
            <a:chOff x="558720" y="1047600"/>
            <a:chExt cx="6265800" cy="601920"/>
          </a:xfrm>
        </p:grpSpPr>
        <p:sp>
          <p:nvSpPr>
            <p:cNvPr id="173" name="圆角矩形 31"/>
            <p:cNvSpPr/>
            <p:nvPr/>
          </p:nvSpPr>
          <p:spPr>
            <a:xfrm>
              <a:off x="558720" y="1047600"/>
              <a:ext cx="4621680" cy="60192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9"/>
            <p:cNvSpPr/>
            <p:nvPr/>
          </p:nvSpPr>
          <p:spPr>
            <a:xfrm>
              <a:off x="755280" y="1090440"/>
              <a:ext cx="606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考点二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二次根式的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12"/>
          <p:cNvGrpSpPr/>
          <p:nvPr/>
        </p:nvGrpSpPr>
        <p:grpSpPr>
          <a:xfrm>
            <a:off x="538200" y="4433760"/>
            <a:ext cx="7889760" cy="698400"/>
            <a:chOff x="538200" y="4433760"/>
            <a:chExt cx="7889760" cy="698400"/>
          </a:xfrm>
        </p:grpSpPr>
        <p:grpSp>
          <p:nvGrpSpPr>
            <p:cNvPr id="176" name="组合 13"/>
            <p:cNvGrpSpPr/>
            <p:nvPr/>
          </p:nvGrpSpPr>
          <p:grpSpPr>
            <a:xfrm>
              <a:off x="538200" y="4433760"/>
              <a:ext cx="7889760" cy="642600"/>
              <a:chOff x="538200" y="4433760"/>
              <a:chExt cx="7889760" cy="642600"/>
            </a:xfrm>
          </p:grpSpPr>
          <p:sp>
            <p:nvSpPr>
              <p:cNvPr id="177" name="文本框 14"/>
              <p:cNvSpPr/>
              <p:nvPr/>
            </p:nvSpPr>
            <p:spPr>
              <a:xfrm>
                <a:off x="538200" y="4433760"/>
                <a:ext cx="78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.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若实数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b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满足                  则    </a:t>
                </a:r>
                <a:r>
                  <a:rPr b="0" lang="zh-CN" sz="2400" spc="-1" strike="noStrike" u="sng">
                    <a:solidFill>
                      <a:srgbClr val="000000"/>
                    </a:solidFill>
                    <a:uFillTx/>
                    <a:latin typeface="黑体"/>
                    <a:ea typeface="黑体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.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8" name="对象 15"/>
              <p:cNvGraphicFramePr/>
              <p:nvPr/>
            </p:nvGraphicFramePr>
            <p:xfrm>
              <a:off x="2845800" y="4579200"/>
              <a:ext cx="2684880" cy="4327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9" name="对象 15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845800" y="4579200"/>
                        <a:ext cx="2684880" cy="43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0" name="对象 17"/>
            <p:cNvGraphicFramePr/>
            <p:nvPr/>
          </p:nvGraphicFramePr>
          <p:xfrm>
            <a:off x="5942160" y="4434840"/>
            <a:ext cx="585360" cy="69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1" name="对象 1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42160" y="4434840"/>
                      <a:ext cx="585360" cy="6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2" name="文本框 19"/>
          <p:cNvSpPr/>
          <p:nvPr/>
        </p:nvSpPr>
        <p:spPr>
          <a:xfrm>
            <a:off x="6661080" y="4579920"/>
            <a:ext cx="4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21"/>
          <p:cNvGrpSpPr/>
          <p:nvPr/>
        </p:nvGrpSpPr>
        <p:grpSpPr>
          <a:xfrm>
            <a:off x="900000" y="1125360"/>
            <a:ext cx="6870960" cy="1739880"/>
            <a:chOff x="900000" y="1125360"/>
            <a:chExt cx="6870960" cy="1739880"/>
          </a:xfrm>
        </p:grpSpPr>
        <p:sp>
          <p:nvSpPr>
            <p:cNvPr id="184" name="文本框 99"/>
            <p:cNvSpPr/>
            <p:nvPr/>
          </p:nvSpPr>
          <p:spPr>
            <a:xfrm>
              <a:off x="900000" y="1125360"/>
              <a:ext cx="6870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初中阶段主要涉及三种非负数：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|≥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≥0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果若干个非负数的和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那么这若干个非负数都必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这是求一个方程中含有多个未知数的有效方法之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5" name="对象 20"/>
            <p:cNvGraphicFramePr/>
            <p:nvPr/>
          </p:nvGraphicFramePr>
          <p:xfrm>
            <a:off x="5364000" y="1267920"/>
            <a:ext cx="450000" cy="426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对象 2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64000" y="1267920"/>
                      <a:ext cx="45000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7" name="组合 17"/>
          <p:cNvGrpSpPr/>
          <p:nvPr/>
        </p:nvGrpSpPr>
        <p:grpSpPr>
          <a:xfrm>
            <a:off x="468360" y="642960"/>
            <a:ext cx="1550880" cy="554040"/>
            <a:chOff x="468360" y="642960"/>
            <a:chExt cx="1550880" cy="554040"/>
          </a:xfrm>
        </p:grpSpPr>
        <p:sp>
          <p:nvSpPr>
            <p:cNvPr id="188" name="圆角矩形 31"/>
            <p:cNvSpPr/>
            <p:nvPr/>
          </p:nvSpPr>
          <p:spPr>
            <a:xfrm>
              <a:off x="468360" y="642960"/>
              <a:ext cx="1550880" cy="55404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19"/>
            <p:cNvSpPr/>
            <p:nvPr/>
          </p:nvSpPr>
          <p:spPr>
            <a:xfrm>
              <a:off x="495720" y="699840"/>
              <a:ext cx="152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法总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30734"/>
          <p:cNvGrpSpPr/>
          <p:nvPr/>
        </p:nvGrpSpPr>
        <p:grpSpPr>
          <a:xfrm>
            <a:off x="257040" y="3741840"/>
            <a:ext cx="1877760" cy="576000"/>
            <a:chOff x="257040" y="3741840"/>
            <a:chExt cx="1877760" cy="576000"/>
          </a:xfrm>
        </p:grpSpPr>
        <p:grpSp>
          <p:nvGrpSpPr>
            <p:cNvPr id="191" name="组合 35"/>
            <p:cNvGrpSpPr/>
            <p:nvPr/>
          </p:nvGrpSpPr>
          <p:grpSpPr>
            <a:xfrm>
              <a:off x="257040" y="3741840"/>
              <a:ext cx="1877760" cy="576000"/>
              <a:chOff x="257040" y="3741840"/>
              <a:chExt cx="1877760" cy="576000"/>
            </a:xfrm>
          </p:grpSpPr>
          <p:sp>
            <p:nvSpPr>
              <p:cNvPr id="192" name="椭圆 56"/>
              <p:cNvSpPr/>
              <p:nvPr/>
            </p:nvSpPr>
            <p:spPr>
              <a:xfrm>
                <a:off x="257040" y="3741840"/>
                <a:ext cx="1877760" cy="5760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57"/>
              <p:cNvSpPr/>
              <p:nvPr/>
            </p:nvSpPr>
            <p:spPr>
              <a:xfrm>
                <a:off x="465480" y="3741840"/>
                <a:ext cx="1460520" cy="44820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TextBox 55"/>
            <p:cNvSpPr/>
            <p:nvPr/>
          </p:nvSpPr>
          <p:spPr>
            <a:xfrm>
              <a:off x="539280" y="3777840"/>
              <a:ext cx="142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针对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12"/>
          <p:cNvGrpSpPr/>
          <p:nvPr/>
        </p:nvGrpSpPr>
        <p:grpSpPr>
          <a:xfrm>
            <a:off x="609480" y="1038240"/>
            <a:ext cx="7888320" cy="1205280"/>
            <a:chOff x="609480" y="1038240"/>
            <a:chExt cx="7888320" cy="1205280"/>
          </a:xfrm>
        </p:grpSpPr>
        <p:grpSp>
          <p:nvGrpSpPr>
            <p:cNvPr id="196" name="组合 5"/>
            <p:cNvGrpSpPr/>
            <p:nvPr/>
          </p:nvGrpSpPr>
          <p:grpSpPr>
            <a:xfrm>
              <a:off x="609480" y="1038240"/>
              <a:ext cx="7888320" cy="1191240"/>
              <a:chOff x="609480" y="1038240"/>
              <a:chExt cx="7888320" cy="1191240"/>
            </a:xfrm>
          </p:grpSpPr>
          <p:sp>
            <p:nvSpPr>
              <p:cNvPr id="197" name="文本框 2"/>
              <p:cNvSpPr/>
              <p:nvPr/>
            </p:nvSpPr>
            <p:spPr>
              <a:xfrm>
                <a:off x="609480" y="1038240"/>
                <a:ext cx="7888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c8c93"/>
                    </a:solidFill>
                    <a:latin typeface="Times New Roman"/>
                    <a:ea typeface="黑体"/>
                  </a:rPr>
                  <a:t>例</a:t>
                </a:r>
                <a:r>
                  <a:rPr b="0" lang="en-US" sz="2400" spc="-1" strike="noStrike">
                    <a:solidFill>
                      <a:srgbClr val="3c8c93"/>
                    </a:solidFill>
                    <a:latin typeface="Times New Roman"/>
                    <a:ea typeface="黑体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实数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b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在数轴上的位置如图所示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请化简：             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8" name="对象 4"/>
              <p:cNvGraphicFramePr/>
              <p:nvPr/>
            </p:nvGraphicFramePr>
            <p:xfrm>
              <a:off x="2698920" y="1772280"/>
              <a:ext cx="1777680" cy="4273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99" name="对象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698920" y="1772280"/>
                        <a:ext cx="1777680" cy="42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00" name="组合 11"/>
            <p:cNvGrpSpPr/>
            <p:nvPr/>
          </p:nvGrpSpPr>
          <p:grpSpPr>
            <a:xfrm>
              <a:off x="6082200" y="1698840"/>
              <a:ext cx="2200320" cy="544680"/>
              <a:chOff x="6082200" y="1698840"/>
              <a:chExt cx="2200320" cy="544680"/>
            </a:xfrm>
          </p:grpSpPr>
          <p:cxnSp>
            <p:nvCxnSpPr>
              <p:cNvPr id="201" name="直接箭头连接符 6"/>
              <p:cNvCxnSpPr/>
              <p:nvPr/>
            </p:nvCxnSpPr>
            <p:spPr>
              <a:xfrm>
                <a:off x="6082200" y="1816920"/>
                <a:ext cx="2200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02" name="直接连接符 8"/>
              <p:cNvSpPr/>
              <p:nvPr/>
            </p:nvSpPr>
            <p:spPr>
              <a:xfrm>
                <a:off x="6483240" y="1698840"/>
                <a:ext cx="0" cy="10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9"/>
              <p:cNvSpPr/>
              <p:nvPr/>
            </p:nvSpPr>
            <p:spPr>
              <a:xfrm>
                <a:off x="6914160" y="1698840"/>
                <a:ext cx="0" cy="10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接连接符 10"/>
              <p:cNvSpPr/>
              <p:nvPr/>
            </p:nvSpPr>
            <p:spPr>
              <a:xfrm>
                <a:off x="7778880" y="1698840"/>
                <a:ext cx="0" cy="10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文本框 15"/>
              <p:cNvSpPr/>
              <p:nvPr/>
            </p:nvSpPr>
            <p:spPr>
              <a:xfrm>
                <a:off x="7635600" y="1771200"/>
                <a:ext cx="34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文本框 21"/>
              <p:cNvSpPr/>
              <p:nvPr/>
            </p:nvSpPr>
            <p:spPr>
              <a:xfrm>
                <a:off x="6338880" y="1743120"/>
                <a:ext cx="34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文本框 22"/>
              <p:cNvSpPr/>
              <p:nvPr/>
            </p:nvSpPr>
            <p:spPr>
              <a:xfrm>
                <a:off x="6771960" y="1783800"/>
                <a:ext cx="34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8" name="组合 16"/>
          <p:cNvGrpSpPr/>
          <p:nvPr/>
        </p:nvGrpSpPr>
        <p:grpSpPr>
          <a:xfrm>
            <a:off x="1258920" y="3427560"/>
            <a:ext cx="5046480" cy="1739880"/>
            <a:chOff x="1258920" y="3427560"/>
            <a:chExt cx="5046480" cy="1739880"/>
          </a:xfrm>
        </p:grpSpPr>
        <p:sp>
          <p:nvSpPr>
            <p:cNvPr id="209" name="文本框 13"/>
            <p:cNvSpPr/>
            <p:nvPr/>
          </p:nvSpPr>
          <p:spPr>
            <a:xfrm>
              <a:off x="1258920" y="3427560"/>
              <a:ext cx="5046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：由数轴可以确定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&lt;0,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所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所以原式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-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-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-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)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+b=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0" name="对象 14"/>
            <p:cNvGraphicFramePr/>
            <p:nvPr/>
          </p:nvGraphicFramePr>
          <p:xfrm>
            <a:off x="2012040" y="4107240"/>
            <a:ext cx="3018240" cy="428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1" name="对象 1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012040" y="4107240"/>
                      <a:ext cx="301824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2" name="组合 18"/>
          <p:cNvGrpSpPr/>
          <p:nvPr/>
        </p:nvGrpSpPr>
        <p:grpSpPr>
          <a:xfrm>
            <a:off x="1287360" y="5235480"/>
            <a:ext cx="7478640" cy="1191240"/>
            <a:chOff x="1287360" y="5235480"/>
            <a:chExt cx="7478640" cy="1191240"/>
          </a:xfrm>
        </p:grpSpPr>
        <p:sp>
          <p:nvSpPr>
            <p:cNvPr id="213" name="文本框 19"/>
            <p:cNvSpPr/>
            <p:nvPr/>
          </p:nvSpPr>
          <p:spPr>
            <a:xfrm>
              <a:off x="1287360" y="5235480"/>
              <a:ext cx="7478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&lt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,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化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结果是</a:t>
              </a: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4" name="对象 20"/>
            <p:cNvGraphicFramePr/>
            <p:nvPr/>
          </p:nvGraphicFramePr>
          <p:xfrm>
            <a:off x="4162680" y="5452200"/>
            <a:ext cx="3473280" cy="409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15" name="对象 2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62680" y="5452200"/>
                      <a:ext cx="347328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6" name="文本框 24"/>
          <p:cNvSpPr/>
          <p:nvPr/>
        </p:nvSpPr>
        <p:spPr>
          <a:xfrm>
            <a:off x="3703680" y="5873760"/>
            <a:ext cx="4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"/>
          <p:cNvSpPr/>
          <p:nvPr/>
        </p:nvSpPr>
        <p:spPr>
          <a:xfrm>
            <a:off x="1114560" y="2346480"/>
            <a:ext cx="7488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析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化简此代数式的关键是能准确地判断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,b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符号，然后利用绝对值及二次根式的性质化简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0734"/>
          <p:cNvGrpSpPr/>
          <p:nvPr/>
        </p:nvGrpSpPr>
        <p:grpSpPr>
          <a:xfrm>
            <a:off x="141120" y="5297400"/>
            <a:ext cx="1877760" cy="576360"/>
            <a:chOff x="141120" y="5297400"/>
            <a:chExt cx="1877760" cy="576360"/>
          </a:xfrm>
        </p:grpSpPr>
        <p:grpSp>
          <p:nvGrpSpPr>
            <p:cNvPr id="219" name="组合 35"/>
            <p:cNvGrpSpPr/>
            <p:nvPr/>
          </p:nvGrpSpPr>
          <p:grpSpPr>
            <a:xfrm>
              <a:off x="141120" y="5297400"/>
              <a:ext cx="1877760" cy="576360"/>
              <a:chOff x="141120" y="5297400"/>
              <a:chExt cx="1877760" cy="576360"/>
            </a:xfrm>
          </p:grpSpPr>
          <p:sp>
            <p:nvSpPr>
              <p:cNvPr id="220" name="椭圆 56"/>
              <p:cNvSpPr/>
              <p:nvPr/>
            </p:nvSpPr>
            <p:spPr>
              <a:xfrm>
                <a:off x="141120" y="5297400"/>
                <a:ext cx="1877760" cy="57636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椭圆 57"/>
              <p:cNvSpPr/>
              <p:nvPr/>
            </p:nvSpPr>
            <p:spPr>
              <a:xfrm>
                <a:off x="349560" y="5297400"/>
                <a:ext cx="1460520" cy="44820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TextBox 55"/>
            <p:cNvSpPr/>
            <p:nvPr/>
          </p:nvSpPr>
          <p:spPr>
            <a:xfrm>
              <a:off x="423360" y="5333760"/>
              <a:ext cx="142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针对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1"/>
          <p:cNvGrpSpPr/>
          <p:nvPr/>
        </p:nvGrpSpPr>
        <p:grpSpPr>
          <a:xfrm>
            <a:off x="558720" y="506520"/>
            <a:ext cx="6265800" cy="601560"/>
            <a:chOff x="558720" y="506520"/>
            <a:chExt cx="6265800" cy="601560"/>
          </a:xfrm>
        </p:grpSpPr>
        <p:sp>
          <p:nvSpPr>
            <p:cNvPr id="224" name="圆角矩形 31"/>
            <p:cNvSpPr/>
            <p:nvPr/>
          </p:nvSpPr>
          <p:spPr>
            <a:xfrm>
              <a:off x="558720" y="506520"/>
              <a:ext cx="4621680" cy="60156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19"/>
            <p:cNvSpPr/>
            <p:nvPr/>
          </p:nvSpPr>
          <p:spPr>
            <a:xfrm>
              <a:off x="755280" y="549360"/>
              <a:ext cx="606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考点三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二次根式的化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